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A46-2EF4-479F-A624-57D30394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2AFE-4D5E-4505-8467-63C162E5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E8CD-D536-45CE-AE1A-0B89C6E8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D60-233C-4550-B7A7-C7CABE77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E74-8D4C-473B-ABF4-1490DB64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2FE-6B63-4D90-B43B-4667788E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8C5-8B45-43BB-9C20-B60E490C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DD7-54AC-439E-86C3-ED726EBF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84C8-404A-40EE-A0B4-9F037EC6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676A-FF30-4207-BDBB-85BB6CE6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69D-30E9-4E7F-BAAF-7F69C530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889-184E-46DB-8583-8FC6749D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E4F1-22EC-406F-9147-58406FAF6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B127-E1DC-4ADA-9813-707AF90DAA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сновную роль в системе электронной почты играют программы трех тип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ранспортные агенты (MTA - Mail Transport Agent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генты доставки (MDA - Mail Delivery Agent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льзовательские агенты (MUA - Mail User Ag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5727-090D-4895-8B4E-9701C7698D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анализ и преобразование адресов и заголовков почтовых сообщ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опрос DNS на предмет имени и адреса почтового сервера адресата сообщ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определение агента доставки для каждого сообщения и передача сообщения выбранному агенту доставк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управление очередью сообщений, отложенный и повторный вызов агентов доставки в случае невозможности немедленной доставки сообщ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возврат сообщений, которые по каким-либо причинам невозможно доставить по назначен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Функции транспортного аг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B3E5-414A-43A1-9DAB-90FF0CC953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збор списков рассылки, пседонимов, переадресации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форвардинг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образование адресов в формат другой почтовой системы, если MTA функционирует как шлюз между двумя почтовыми системами (например, между Internet Mail и Sprint Mail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образование имени почтового домена отправителя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маскарад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установка служебных заголовков в сообщении, отражающих его маршрут и процесс обрабо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Анализ и преобразование адре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795C-EB38-483F-AA70-549D29B3D7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local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направлено на почтовый ящик, находящийся на этом же компьютере; доставка производится, например, добавлением содержимого сообщения в определенный файл (</a:t>
            </a:r>
            <a:r>
              <a:rPr b="0" i="1" lang="ru-RU" sz="2500" spc="-1" strike="noStrike">
                <a:solidFill>
                  <a:srgbClr val="3333ff"/>
                </a:solidFill>
                <a:latin typeface="Tahoma"/>
              </a:rPr>
              <a:t>в Unix это файл /var/mail/почтовый_ящик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SMTP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направлено на почтовый ящик в другом почтовом домене; доставка производится путем соединения с транспортным агентом на удаленном сервере с помощью протокола SMTP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prog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должно быть обработано какой-либо программой; доставка производится вызовом этой программы, на вход которой подается содержимое письм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Агенты доста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3763-0A2D-45E7-A9E0-3A681E2CF5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лучение сообщений с почтового серве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зентация, хранение, удаление и каталогизирование почтовых сообще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здание нового сообщения и передача его транспортному агенту для дальнейшей обработки и достав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Функции пользовательского аг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2D51-CA6E-4412-BE05-3A724841B7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ОС Unix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транспортным агент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является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endmail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тавшая де-факто стандартом MTA. Кроме того, в программу sendmail входи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гент доставки SMT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Локальный агент доставк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 ключом "-d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качеств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UA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гут использоваться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, pine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различны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Tool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од X-Windows и друг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качеств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POP-сервер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жет быть использована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qpop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2. Почтовые агенты в различных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BEB0-DAF0-4052-8ED9-E1456FF3F8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Почтовое сообщение состоит из заголовков и тела. В заголовках указываются адреса отправителя и получателя (получателей) и другая служебная информац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Тело представляет собой 7-битный текст. Спецификация MIME позволяет пересылать в теле сообщения двоичные данные и создавать сложные сообщения, состоящие из нескольких частей с данными различных типов. При пересылке сообщения через SMTP создается конверт, состоящий из адресов отправителя и получателя, передаваемых в SMTP-сеан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Структура email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ED9D-F822-4160-8ACA-40E1288BCA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From: ivanov@a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ply-To: real_ivanov@a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To: sidorov@vvsu.ru, "Petr Petrov" &lt;petrov@vvsu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с: "Jonh Smith" &lt;john@smith.a.com&gt;, &lt;sidorenko@c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Bcc: "Fox Mulder" &lt;mulder@fbi.gov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ubject: Happy New Y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Date: Sat, 15 Jan 2000 17:25:32 +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essage-ID: &lt;3.0.6.32.200623.007badf0@mail.a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ceived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Заголовки почтового 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D251-B1ED-4B8F-8EE0-CD6E36423A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Multipurpose Internet Mail Extensions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ецификации, определяющие дополнения в формате почтовых сообщений д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ересылки восьмибитных текстов и полностью двоичных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ддержки сложных сообщений, состоящих из нескольких разделов (возможно, содержащих данные разных тип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ормирование и разбор сообщений в соответствии со спецификациями MIME производится пользовательскими почтовыми аген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M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7E34-8865-4F4F-AF9E-368CF78043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HELO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AIL FROM: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адрес_от_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CPT TO: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адрес_к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VRFY</a:t>
            </a:r>
            <a:r>
              <a:rPr b="0" i="1" lang="ru-RU" sz="1800" spc="-1" strike="noStrike" baseline="-257000">
                <a:solidFill>
                  <a:srgbClr val="fafbfc"/>
                </a:solidFill>
                <a:latin typeface="Arial"/>
              </a:rPr>
              <a:t> email_адр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EXPN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ad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ые команды протокола SM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4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Электронная поч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5BC9-DB48-4B4C-88D1-802C53ADF5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USER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имя_пользо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PASS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па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LIST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TR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LE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TOP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N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ые команды протокола POP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EA5A-DF6D-463E-81F7-220B7C6FC3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грамма send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это транспортный почтовый агент (MTA) плюс агент доставки SMTP. Sendmail фактически является стандартным MTA для Unix и поставляется вместе с операционной систе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Программа send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E0B0-B1F4-4EF5-A1F9-FB8E5054AF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endmail состоит из программ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usr/lib/send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/sendmail.c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файла псевдонимо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/ali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других вспомогательных файлов, а также документов справочника man. Программа использует каталог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ля хранения конфигурационного и вспомогательных файлов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var/spool/mqueu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ля очереди сообщений. Путь к каталогу очереди сообщений может варьироваться от системы к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470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ем отличаются почтовые агенты: транспортный, доставки, пользовательск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В чем разница между протоколами POP и SMT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В чем состоят функции почтового серв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Назовите составные части сложного почтового сообщения (текст с двумя файлами-приложениями)? Укажите ключевые для понимания формата сообщения заголовки и их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то такое M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Опишите функции программы sendmail. Обоснуйте необходимость наличия сложного конфигурационного файла у эт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Сравните sendmail с другими транспортными аге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Опишите, какие возможности имеет sendmail для ограничения (фильтрации) входящих и исходящих сообщений; какие критерии при этом использу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то такое маскарадинг? Приведите ситуации, в которых он может понадоб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.Costales, E.Alman. Sendmail. – O’Reily and Associat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Организация службы электронной почты в 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Почтовые агенты в различных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труктура email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Основные команды протокола SMTP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Программа sendmail: ее функции и составные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6375-64A3-4D58-A4BC-9F5B64F427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лужба электронной почты состоит из сети почтовых серверов, обслуживающих определенные доменные имена D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 серверах сортируются, обрабатываются и хранятся в ожидании получателя почтовые со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рверы пересылают сообщения между собой через Интернет по протоколу SM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Конечные пользователи работают либо непосредственно на серверах, либо чаще всего - за отдельными компьюте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ая концеп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45D1-1230-4DCB-8272-C1D8FADE80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Работа электронной почты организуется путем взаимодействия агентов трех типов: транспортных, пользовательских и агентов доста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Транспортные агенты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выполняют роль центров по обработке и маршрутизации пи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Агенты доставки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работают в связке с траспортными агентами и осуществляют доставку и пересылку сообщений тем или иным специфическим спосо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Пользовательские агенты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взаимодействуют непосредственно с челове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. Организация службы электронной почты в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4869-0225-4935-89D5-C7C1E85103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Транспортный агент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T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осуществляющая маршрутизацию почтовых сообщений, то есть анализ и преобразование заголовков письма и выбор и вызов нужного агента достав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Агент доставки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D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осуществляющая доставку или пересылку почтового сообщения тем или иным специфическим способо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ользовательский агент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U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предоставляющая конечному пользователю интерфейс для работы с почтовыми сообщения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лючев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0B6E-92F6-43B0-B2A5-E413FFF960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чтовый домен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доменное имя, находящееся в правой части адреса электронной поч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чтовый ящик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левая часть адреса электронной почты, а также совокупность методов доставки и хранения почтовых сообщений внутри данного почтового дом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Локальный 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адрес электронной почты, находящийся в одном из почтовых доменов, обслуживаемых данным транспортным аген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лючев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DE1D-C2E7-483E-AD41-A6D11B011F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MTP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пересылки почтового сообщения транспортному аген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OP-3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удаленного доступа пользовательского агента к почтовому ящи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MAP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удаленного доступа пользовательского агента к почтовому ящику; по сравнению с POP-3 предлагает расширенный набор услуг для конечного пользова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Прото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7C37-325C-4511-B20D-6AD5B10CFA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94464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Организация и функционирование службы электронной поч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543744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7:56Z</dcterms:modified>
  <cp:revision>238</cp:revision>
  <dc:subject/>
  <dc:title>Lecture Template </dc:title>
</cp:coreProperties>
</file>